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jpeg" ContentType="image/jpeg"/>
  <Override PartName="/ppt/media/image14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EBE41-8F19-4A35-AC19-8F74EBDBD2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FABA5-69CB-4513-BDBE-881A2BAE6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13B10-523B-4618-9DA6-BA2374208E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1155F-8100-4C01-8CFB-58A70633B3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E66-1A01-4DFC-94F4-68647BF2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E9F-9556-4131-86A0-BFE8D11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B6C-983F-4EBA-859C-7165DA40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1F7-FF80-4BEF-AD75-50A172DC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E91-02D0-47CA-8B47-FB0A8F7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C5C-0D29-49E8-BD7A-22B95CA6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D6E-937A-4EA8-9C2E-80A3885A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D29-2F8D-4526-8E53-7C38552D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AF4-73F3-43B3-B3DB-B02248E0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60F-010B-48A7-B551-AE411F2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387-3CBD-4C1A-8CC5-6211778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610-455F-4105-9242-9833160C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BCF99-1E3D-47F7-B34A-C1923E0B18D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F211D-52B3-4B31-8E8A-EE26943FA3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gypt.jpg"/>
          <p:cNvPicPr/>
          <p:nvPr/>
        </p:nvPicPr>
        <p:blipFill>
          <a:blip r:embed="rId1"/>
          <a:stretch/>
        </p:blipFill>
        <p:spPr>
          <a:xfrm>
            <a:off x="165240" y="219240"/>
            <a:ext cx="8769240" cy="641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Jonathan, Ryan, Jack, Arden, and last but not least, Gabb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1689120" y="2036880"/>
            <a:ext cx="5765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8" descr="ancient-egypt-cloths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532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280" y="2496600"/>
            <a:ext cx="590724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hard wor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peacefu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majority peasants near the N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8" descr="amenhotep"/>
          <p:cNvPicPr/>
          <p:nvPr/>
        </p:nvPicPr>
        <p:blipFill>
          <a:blip r:embed="rId1"/>
          <a:stretch/>
        </p:blipFill>
        <p:spPr>
          <a:xfrm>
            <a:off x="2154240" y="0"/>
            <a:ext cx="5286240" cy="7155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adi MT Condensed Extra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Lead by pharaohs(God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riests were right h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Nome:Region. Each region had its own govern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ocra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haraoh"/>
          <p:cNvPicPr/>
          <p:nvPr/>
        </p:nvPicPr>
        <p:blipFill>
          <a:blip r:embed="rId1"/>
          <a:stretch/>
        </p:blipFill>
        <p:spPr>
          <a:xfrm>
            <a:off x="2349360" y="0"/>
            <a:ext cx="4445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Pharao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 pharaoh was the leader of the empi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Half-God , Half-hum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Infinite power over citiz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Over the time period of three thousand years over 170 pharaohs have lead Egy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Tax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9400" y="1600200"/>
            <a:ext cx="56833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aid in goods and lab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one person per family h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o work in labor to pay for tax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axed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1203003686180px-pharaoh"/>
          <p:cNvPicPr/>
          <p:nvPr/>
        </p:nvPicPr>
        <p:blipFill>
          <a:blip r:embed="rId1"/>
          <a:stretch/>
        </p:blipFill>
        <p:spPr>
          <a:xfrm>
            <a:off x="7531200" y="3719520"/>
            <a:ext cx="1612800" cy="313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203003686180px-pharaoh"/>
          <p:cNvPicPr/>
          <p:nvPr/>
        </p:nvPicPr>
        <p:blipFill>
          <a:blip r:embed="rId2"/>
          <a:stretch/>
        </p:blipFill>
        <p:spPr>
          <a:xfrm>
            <a:off x="0" y="3719520"/>
            <a:ext cx="1612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akhenatenhat"/>
          <p:cNvPicPr/>
          <p:nvPr/>
        </p:nvPicPr>
        <p:blipFill>
          <a:blip r:embed="rId1"/>
          <a:stretch/>
        </p:blipFill>
        <p:spPr>
          <a:xfrm>
            <a:off x="2603520" y="436680"/>
            <a:ext cx="3936960" cy="598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La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1768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haraoh enforced la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breaking laws = harsh punishment, disgrace over person and fami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100 beats with ca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five bleeding cu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branding, exile, mutilation drowning, beheading burning alive: Wor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worst crime was tomb raiding because things inside tomb were sac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ages"/>
          <p:cNvPicPr/>
          <p:nvPr/>
        </p:nvPicPr>
        <p:blipFill>
          <a:blip r:embed="rId1"/>
          <a:stretch/>
        </p:blipFill>
        <p:spPr>
          <a:xfrm>
            <a:off x="457200" y="547560"/>
            <a:ext cx="8229600" cy="5864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Pol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334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First police organization around 3000 b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mpire was divided into 42 reg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ach region had a police officer for security and Just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ancient-egypt-online.com/ancient-egypt-government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library.thinkquest.org/3011/egypt3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egyptian_pyramids___cairo_egypt_africa-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Not many boys and girls were educ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Kids educated came from rich famil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Scribal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Kids went to school so that one day they could be a famous pharaoh, wealthy scribe or enter the royal serv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If you didn’t want to be a scribe but you attended scribal school you would become and apprentice (doctor, baker, etc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School suppli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badi MT Condensed Extra Bol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Reed brus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badi MT Condensed Extra Bol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Ink (soot and wate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badi MT Condensed Extra Bold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aper papyr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34960" y="717480"/>
            <a:ext cx="58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ws_Pyramids_at_Sunset_1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Written language began in the northeast corner of Africa 5000 years ago along the Nile riv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Used pictures to represent words (hieroglyphics or ideogram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The ancient Egyptians used hieroglyphs for more than 3500 year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The last hieroglyphs text was written 1600 years ag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Afterwards, they used the Greek alphabet with some extra letters added to represent Egyptian sounds (Copti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Coptic was eventually replaced by Arabic, which is spoken in Egypt toda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The ancient Egyptian language died out and was forgotte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Extra Bold"/>
              </a:rPr>
              <a:t>Since then, no one had any idea what it represented, so they made up their own translation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From 6000 to 2000 BC, was mostly placed in Cairo and along the Nile Riv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gypt was split into two kingdoms such as the upper kingdom and lower kingd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rade went up and down the Nile River 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re are many pyramid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in Egypt where pharaohs a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are buried or mummifi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Where is Egypt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mao of ancient egpyt (past).jpg"/>
          <p:cNvPicPr/>
          <p:nvPr/>
        </p:nvPicPr>
        <p:blipFill>
          <a:blip r:embed="rId1"/>
          <a:stretch/>
        </p:blipFill>
        <p:spPr>
          <a:xfrm>
            <a:off x="5959440" y="4003560"/>
            <a:ext cx="22813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ystic_JourneyX_PyramidsH_GizaE_Egypt.jpg"/>
          <p:cNvPicPr/>
          <p:nvPr/>
        </p:nvPicPr>
        <p:blipFill>
          <a:blip r:embed="rId1"/>
          <a:stretch/>
        </p:blipFill>
        <p:spPr>
          <a:xfrm>
            <a:off x="228600" y="274680"/>
            <a:ext cx="8696160" cy="634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Obelis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yram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Mumm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Hieroglyph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apyr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Geometr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Rectangle 5" descr=""/>
          <p:cNvPicPr/>
          <p:nvPr/>
        </p:nvPicPr>
        <p:blipFill>
          <a:blip r:embed="rId2"/>
          <a:stretch/>
        </p:blipFill>
        <p:spPr>
          <a:xfrm>
            <a:off x="1725480" y="669960"/>
            <a:ext cx="5693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yramids"/>
          <p:cNvPicPr/>
          <p:nvPr/>
        </p:nvPicPr>
        <p:blipFill>
          <a:blip r:embed="rId1"/>
          <a:stretch/>
        </p:blipFill>
        <p:spPr>
          <a:xfrm>
            <a:off x="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143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Ancient economics included farming, trading, and edu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There were also many jobs such as government officials, soldiers, scribes, doctors, merchants, dancers, fishermen, hunters, bakers, carpenters, coffin-makers, spinners, weavers, jewelers, pyramid builders, Egyptian artists, and farmers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They paid in Deben’s instead of co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badi MT Condensed Extra Bold"/>
              </a:rPr>
              <a:t>Deben's are 0.5 ounces of copp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Ancient Economic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143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raded in countries all around the Mediterranean Sea, Red Sea and the Aegean S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raded: silver, iron, cedar logs, horses, ivory, copper, cattle, leopard skins, and sp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The main products brought from Egypt was wheat, barley, and papyrus she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Sailors on trading ships we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paid in grai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Trad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Jack Stoddart\Pictures\ancient egypt presetation.jpg"/>
          <p:cNvPicPr/>
          <p:nvPr/>
        </p:nvPicPr>
        <p:blipFill>
          <a:blip r:embed="rId1"/>
          <a:stretch/>
        </p:blipFill>
        <p:spPr>
          <a:xfrm>
            <a:off x="5952960" y="4556160"/>
            <a:ext cx="27338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540160" y="0"/>
            <a:ext cx="353052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6070680" y="0"/>
            <a:ext cx="3073320" cy="25401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0" y="27241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Iron</a:t>
            </a: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2540160" y="272412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aggers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454800" y="272412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edar Logs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0" y="3186000"/>
            <a:ext cx="360684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5"/>
          <a:stretch/>
        </p:blipFill>
        <p:spPr>
          <a:xfrm>
            <a:off x="3606840" y="3186000"/>
            <a:ext cx="3085920" cy="22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6"/>
          <a:stretch/>
        </p:blipFill>
        <p:spPr>
          <a:xfrm>
            <a:off x="6692760" y="3186000"/>
            <a:ext cx="2324160" cy="2247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4"/>
          <p:cNvSpPr/>
          <p:nvPr/>
        </p:nvSpPr>
        <p:spPr>
          <a:xfrm>
            <a:off x="382680" y="543384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Leopard Skin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4400640" y="543384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pices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7010280" y="54338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Papyrus 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6880" y="445680"/>
            <a:ext cx="765324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Ancient Trading Shi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57240" y="1481040"/>
            <a:ext cx="7375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riverschool.org/students/work/culture.e.econ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en.wikipedia.org/wiki/Ancient_Egy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Bibliograp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ask-of-king-tut.jpg"/>
          <p:cNvPicPr/>
          <p:nvPr/>
        </p:nvPicPr>
        <p:blipFill>
          <a:blip r:embed="rId1"/>
          <a:stretch/>
        </p:blipFill>
        <p:spPr>
          <a:xfrm>
            <a:off x="210960" y="274680"/>
            <a:ext cx="8696520" cy="630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Lengthy two step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Anubis would watch over them as they embalmed the corp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Materials Used: Gold, carnelian, lapis lazuli, turquoise, and other semi-precious ston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Good luck char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2548080" y="669960"/>
            <a:ext cx="4224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27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Egyptians were polytheistic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Some main gods are: Ra (the sun god), Osiris (the god of the dead), Isis (the god of magic), Anubis (the god of embalming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A god for most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640400" y="4079880"/>
            <a:ext cx="2036520" cy="254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384280" y="4079880"/>
            <a:ext cx="1982880" cy="254016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3346560" y="341280"/>
            <a:ext cx="2450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Unknown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Religion – Nile Floods (I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Angering G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leasing G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Religion – Pharao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V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Pharaohs manipulate peop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Flooding predictions - G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Use RELIGION to concrete their re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3346560" y="669960"/>
            <a:ext cx="2450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8" descr="WD-10722B"/>
          <p:cNvPicPr/>
          <p:nvPr/>
        </p:nvPicPr>
        <p:blipFill>
          <a:blip r:embed="rId1"/>
          <a:stretch/>
        </p:blipFill>
        <p:spPr>
          <a:xfrm>
            <a:off x="279360" y="274680"/>
            <a:ext cx="8596440" cy="6226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Egyptian Ar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65480" y="1600200"/>
            <a:ext cx="592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Hieroglyph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Enormous Temples and Pyram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Gold plate materials (jewel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Stat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Extra Bold"/>
              </a:rPr>
              <a:t>Obelisk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443640" y="3745080"/>
            <a:ext cx="2270160" cy="20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71600" cy="181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2271600" y="0"/>
            <a:ext cx="2170080" cy="181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4441680" y="0"/>
            <a:ext cx="2251080" cy="181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0" y="1817640"/>
            <a:ext cx="1839960" cy="192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6"/>
          <a:stretch/>
        </p:blipFill>
        <p:spPr>
          <a:xfrm>
            <a:off x="6443640" y="1817640"/>
            <a:ext cx="2700360" cy="191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7"/>
          <a:stretch/>
        </p:blipFill>
        <p:spPr>
          <a:xfrm>
            <a:off x="357120" y="3745080"/>
            <a:ext cx="2271960" cy="203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8"/>
          <a:stretch/>
        </p:blipFill>
        <p:spPr>
          <a:xfrm>
            <a:off x="6692760" y="0"/>
            <a:ext cx="2451240" cy="181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9"/>
          <a:stretch/>
        </p:blipFill>
        <p:spPr>
          <a:xfrm>
            <a:off x="1839960" y="1817640"/>
            <a:ext cx="2125440" cy="1917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10"/>
          <a:stretch/>
        </p:blipFill>
        <p:spPr>
          <a:xfrm>
            <a:off x="3965400" y="1817640"/>
            <a:ext cx="2478240" cy="191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11"/>
          <a:stretch/>
        </p:blipFill>
        <p:spPr>
          <a:xfrm>
            <a:off x="3238560" y="3735360"/>
            <a:ext cx="24051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historylink101.net/egypt_1/religion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Egyptian Government and la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7:36:57Z</dcterms:created>
  <dc:creator>IT User</dc:creator>
  <dc:description/>
  <dc:language>en-US</dc:language>
  <cp:lastModifiedBy>IT User</cp:lastModifiedBy>
  <dcterms:modified xsi:type="dcterms:W3CDTF">2010-10-06T11:07:40Z</dcterms:modified>
  <cp:revision>17</cp:revision>
  <dc:subject/>
  <dc:title>Ancient Egypt</dc:title>
</cp:coreProperties>
</file>